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69336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move the slide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8"/>
          </p:nvPr>
        </p:nvSpPr>
        <p:spPr>
          <a:xfrm>
            <a:off x="-3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9"/>
          </p:nvPr>
        </p:nvSpPr>
        <p:spPr>
          <a:xfrm>
            <a:off x="39621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55E3-1EA5-4832-A970-1133CBC8B5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031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725A-AD29-4DF0-B51F-5C609BFAEA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C0EA-2E7C-48F6-B2FA-512722B6D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5C17-1EF6-48E5-A34A-0F8BBD38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3873-E8FF-4A5D-9DC5-C192A39A0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2292-5C04-4C29-A575-BF8C0093A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B756-58D1-44F4-8289-911E08C28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3FFD-3DED-42AF-AFE3-B0367759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7D7C-4FCB-45AA-84CD-88848524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77C8-D213-42F1-806B-363863E2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DDF4-97E6-4B7B-886A-C300D9E0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A64D-2CA2-4B10-9075-D5574D93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2ABC-57C1-430E-BB40-580F5F7B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87B7-B441-447A-9AC2-1657308F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76A6-5F47-4030-B2FA-8FF767BC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F71F-25D5-4621-9658-3712DAB7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DDAB-FCC8-4CFA-B214-459BE44D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318A-C087-4D90-9FB4-47B9CB03B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FDAB-A300-4FBD-8870-5A3DAC2A2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7B11-75DA-4B21-B971-35B27B6D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09BF-1110-4377-81BD-E71D3504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05B0-940B-4193-ABC6-22C8E3B9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3241-1BC1-4A66-BC51-73C37FC4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6755-321B-4D45-A2C7-01FB1D99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B296-1DED-440C-A680-3E82E341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E3D9-D18F-4BA9-83F1-594D8A06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Rectangle 3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090F-90A8-4452-B007-95CB85F38C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026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Rectangle 1027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028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029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030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031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032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1033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034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035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036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1037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1038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1039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1040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1041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042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1043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1044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1045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046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1049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4" name="Rectangle 1050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Group 1051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6" name="Rectangle 1052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Rectangle 1053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Rectangle 1054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Rectangle 1055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Rectangle 1056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Rectangle 1057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Rectangle 1058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1059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1060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1061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1062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1063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8" name="Rectangle 1064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065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066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067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068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069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070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071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497B-50C1-405E-B424-79D7DB5D6A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Основы логики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5720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447920" y="2362320"/>
            <a:ext cx="7238880" cy="3962160"/>
          </a:xfrm>
          <a:prstGeom prst="rect">
            <a:avLst/>
          </a:prstGeom>
          <a:solidFill>
            <a:srgbClr val="9d9c81"/>
          </a:solidFill>
          <a:ln cap="sq" w="12600">
            <a:solidFill>
              <a:srgbClr val="000000"/>
            </a:solidFill>
            <a:miter/>
          </a:ln>
          <a:effectLst>
            <a:outerShdw dist="197537" dir="2700000" blurRad="0" rotWithShape="0">
              <a:srgbClr val="614020"/>
            </a:outerShdw>
          </a:effectLst>
        </p:spPr>
        <p:txBody>
          <a:bodyPr lIns="92160" rIns="92160" tIns="46080" bIns="4608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Алгебра высказываний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 Narrow"/>
              </a:rPr>
              <a:t>Автор: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ергеев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Евгений Викторович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МОУ СОШ №4 г. Миньяр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Челябинской области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rgeev73@mail.ru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ttp://shk4-minyar.ucoz.ru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Логическая функция, полученная в результате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конъюнкции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, истинна тогда и только тогда, когда истинны все входящие в него логические переменные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Конъюнкция. Определите истинность логической фу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lnSpc>
                <a:spcPct val="80000"/>
              </a:lnSpc>
              <a:spcBef>
                <a:spcPts val="10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2 = 5»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3 = 10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lnSpc>
                <a:spcPct val="80000"/>
              </a:lnSpc>
              <a:spcBef>
                <a:spcPts val="10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2 = 5»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3 = 9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lnSpc>
                <a:spcPct val="80000"/>
              </a:lnSpc>
              <a:spcBef>
                <a:spcPts val="10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2 = 4»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3 = 10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lnSpc>
                <a:spcPct val="80000"/>
              </a:lnSpc>
              <a:spcBef>
                <a:spcPts val="10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2 = 4»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3 = 9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стинна только функция (4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1800"/>
                </a:solidFill>
                <a:latin typeface="Arial Narrow"/>
              </a:rPr>
              <a:t>Запись конъюнкции на формальном языке алгебры высказываний</a:t>
            </a:r>
            <a:endParaRPr b="0" lang="en-US" sz="40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95280" y="1828800"/>
            <a:ext cx="74678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(A,B) = A &amp; B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(A,B) = A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B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акже может встретиться запись, типа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(A,B) = A 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B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(A,B) = A and B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Arial Narrow"/>
              </a:rPr>
              <a:t>Значение логической </a:t>
            </a:r>
            <a:br>
              <a:rPr sz="2800"/>
            </a:br>
            <a:r>
              <a:rPr b="1" lang="ru-RU" sz="2800" spc="-1" strike="noStrike">
                <a:solidFill>
                  <a:srgbClr val="301800"/>
                </a:solidFill>
                <a:latin typeface="Arial Narrow"/>
              </a:rPr>
              <a:t>функции определяется </a:t>
            </a:r>
            <a:br>
              <a:rPr sz="2800"/>
            </a:br>
            <a:r>
              <a:rPr b="1" lang="ru-RU" sz="2800" spc="-1" strike="noStrike">
                <a:solidFill>
                  <a:srgbClr val="301800"/>
                </a:solidFill>
                <a:latin typeface="Arial Narrow"/>
              </a:rPr>
              <a:t>по ее таблице истинности</a:t>
            </a:r>
            <a:endParaRPr b="0" lang="en-US" sz="2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Таблица истинности показывает какие значения принимает логическая функция при всех возможных значениях логических переменных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конъю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297080" y="1828800"/>
          <a:ext cx="7313400" cy="434340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ОЖ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ОЖ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ОЖ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ТИ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конъю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297080" y="1828800"/>
          <a:ext cx="7313400" cy="434340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Объединение двух или нескольких высказываний в одно с помощью союза «ИЛИ» называется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операцией логического сложения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, или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дизъюнкцией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Логическая функция, полученная в результате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дизъюнкции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, истинна тогда, когда истинна хотя бы одна из входящих в него логических переменных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изъюнкция. Определите истинность логической фу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lnSpc>
                <a:spcPct val="80000"/>
              </a:lnSpc>
              <a:spcBef>
                <a:spcPts val="9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2 = 5»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3 = 10»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lnSpc>
                <a:spcPct val="80000"/>
              </a:lnSpc>
              <a:spcBef>
                <a:spcPts val="9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2 = 5»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3 = 9»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lnSpc>
                <a:spcPct val="80000"/>
              </a:lnSpc>
              <a:spcBef>
                <a:spcPts val="9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2 = 4»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3 = 10»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lnSpc>
                <a:spcPct val="80000"/>
              </a:lnSpc>
              <a:spcBef>
                <a:spcPts val="9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2 = 4»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3 = 9»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Ложна только функция (1)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остальные истинны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1800"/>
                </a:solidFill>
                <a:latin typeface="Arial Narrow"/>
              </a:rPr>
              <a:t>Запись дизъюнкции на формальном языке алгебры высказываний</a:t>
            </a:r>
            <a:endParaRPr b="0" lang="en-US" sz="40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F(A,B) = A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B 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Также может встретиться запись, типа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F(A,B) = A + B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ли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F(A,B) = A or B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Алгебра высказываний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Алгебра высказываний была разработана для того, чтобы определять истинность или ложность составных высказываний, не вникая в их содержание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дизъю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97080" y="1828800"/>
          <a:ext cx="7313400" cy="434340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ОЖ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ТИ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ТИ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ТИ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дизъю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297080" y="1828800"/>
          <a:ext cx="7313400" cy="434340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Присоединение частицы «НЕ» к высказыванию называется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операцией логического отрицания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, или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инверсией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Логическое отрицание (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инверсия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) делает истинное высказывание ложным, а ложное – истинным 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логическая отрицательная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единица, перевертыш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Инверс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Пусть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Narrow"/>
              </a:rPr>
              <a:t>A = 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 2 = 4»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истинное высказывание, тогда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Narrow"/>
              </a:rPr>
              <a:t>F(A) =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 2 ≠ 4»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ложное высказывание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1800"/>
                </a:solidFill>
                <a:latin typeface="Arial Narrow"/>
              </a:rPr>
              <a:t>Запись инверсии на формальном языке алгебры высказываний</a:t>
            </a:r>
            <a:endParaRPr b="0" lang="en-US" sz="40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(A) = 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(A) = Ā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Также может встретиться запись, типа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(A) = not 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инверс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130480" y="2209680"/>
          <a:ext cx="5641920" cy="2743200"/>
        </p:xfrm>
        <a:graphic>
          <a:graphicData uri="http://schemas.openxmlformats.org/drawingml/2006/table">
            <a:tbl>
              <a:tblPr/>
              <a:tblGrid>
                <a:gridCol w="2820960"/>
                <a:gridCol w="282096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¬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ы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основных логических функций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4878360" y="1746360"/>
            <a:ext cx="3843360" cy="2783880"/>
          </a:xfrm>
          <a:prstGeom prst="roundRect">
            <a:avLst>
              <a:gd name="adj" fmla="val 7981"/>
            </a:avLst>
          </a:prstGeom>
          <a:blipFill rotWithShape="0">
            <a:blip r:embed="rId1">
              <a:alphaModFix amt="61000"/>
            </a:blip>
            <a:srcRect/>
            <a:tile tx="0" ty="0" sx="100000" sy="100000" algn="ctr"/>
          </a:blipFill>
          <a:ln cap="sq" w="12600">
            <a:solidFill>
              <a:srgbClr val="9d9c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Логическое умно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5410080" y="2344680"/>
            <a:ext cx="827280" cy="201456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6303960" y="2344680"/>
            <a:ext cx="826920" cy="201456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7218360" y="2344680"/>
            <a:ext cx="990720" cy="2014560"/>
          </a:xfrm>
          <a:prstGeom prst="rect">
            <a:avLst/>
          </a:prstGeom>
          <a:blipFill rotWithShape="0">
            <a:blip r:embed="rId4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8"/>
          <p:cNvSpPr/>
          <p:nvPr/>
        </p:nvSpPr>
        <p:spPr>
          <a:xfrm>
            <a:off x="1066680" y="2455920"/>
            <a:ext cx="3648240" cy="2783880"/>
          </a:xfrm>
          <a:prstGeom prst="roundRect">
            <a:avLst>
              <a:gd name="adj" fmla="val 7981"/>
            </a:avLst>
          </a:prstGeom>
          <a:blipFill rotWithShape="0">
            <a:blip r:embed="rId5">
              <a:alphaModFix amt="61000"/>
            </a:blip>
            <a:srcRect/>
            <a:tile tx="0" ty="0" sx="100000" sy="100000" algn="ctr"/>
          </a:blipFill>
          <a:ln cap="sq" w="12600">
            <a:solidFill>
              <a:srgbClr val="9d9c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Логическое сло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9"/>
          <p:cNvSpPr/>
          <p:nvPr/>
        </p:nvSpPr>
        <p:spPr>
          <a:xfrm>
            <a:off x="4876920" y="4721400"/>
            <a:ext cx="3887640" cy="2059560"/>
          </a:xfrm>
          <a:prstGeom prst="roundRect">
            <a:avLst>
              <a:gd name="adj" fmla="val 11338"/>
            </a:avLst>
          </a:prstGeom>
          <a:blipFill rotWithShape="0">
            <a:blip r:embed="rId6">
              <a:alphaModFix amt="61000"/>
            </a:blip>
            <a:srcRect/>
            <a:tile tx="0" ty="0" sx="100000" sy="100000" algn="ctr"/>
          </a:blipFill>
          <a:ln cap="sq" w="12600">
            <a:solidFill>
              <a:srgbClr val="9d9c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Логическое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триц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6095880" y="5319720"/>
            <a:ext cx="827280" cy="1260360"/>
          </a:xfrm>
          <a:prstGeom prst="rect">
            <a:avLst/>
          </a:prstGeom>
          <a:blipFill rotWithShape="0">
            <a:blip r:embed="rId7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6999120" y="5319720"/>
            <a:ext cx="827280" cy="1260360"/>
          </a:xfrm>
          <a:prstGeom prst="rect">
            <a:avLst/>
          </a:prstGeom>
          <a:blipFill rotWithShape="0">
            <a:blip r:embed="rId8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¬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1459080" y="3124080"/>
            <a:ext cx="826920" cy="1974960"/>
          </a:xfrm>
          <a:prstGeom prst="rect">
            <a:avLst/>
          </a:prstGeom>
          <a:blipFill rotWithShape="0">
            <a:blip r:embed="rId9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2373480" y="3124080"/>
            <a:ext cx="826920" cy="1974960"/>
          </a:xfrm>
          <a:prstGeom prst="rect">
            <a:avLst/>
          </a:prstGeom>
          <a:blipFill rotWithShape="0">
            <a:blip r:embed="rId10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3287880" y="3124080"/>
            <a:ext cx="979200" cy="1974960"/>
          </a:xfrm>
          <a:prstGeom prst="rect">
            <a:avLst/>
          </a:prstGeom>
          <a:blipFill rotWithShape="0">
            <a:blip r:embed="rId1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ополнительные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логические функции</a:t>
            </a:r>
            <a:r>
              <a:rPr b="0" lang="en-US" sz="4400" spc="-1" strike="noStrike">
                <a:solidFill>
                  <a:srgbClr val="3018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Импликацию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эквивалентность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можно выразить через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конъюнкцию, дизъюнкцию и отрицание,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оэтому их называют дополнительными логическими функциями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6600"/>
                </a:solidFill>
                <a:uFillTx/>
                <a:latin typeface="Arial Narrow"/>
              </a:rPr>
              <a:t>Импликация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ли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 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6600"/>
                </a:solidFill>
                <a:uFillTx/>
                <a:latin typeface="Arial Narrow"/>
              </a:rPr>
              <a:t>Эквивалентность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↔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)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ли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)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)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Импликац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Объединение двух высказываний, из которых первое является условием, а второе – следствием из него, называется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импликацией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 (логическим следованием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ческие переменны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95280" y="1828800"/>
            <a:ext cx="73137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Логические переменные – простые высказывания, содержащие только одну мысль. 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Обозначаются буквами латинского алфавита: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A, B, C…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Логические переменные могут принимать лишь два значения: «ИСТИНА» (1) или «ЛОЖЬ» (0)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Импликац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Импликация ложна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тогда и только тогда, когда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условие истинно,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а следствие ложно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ример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Если выучишь материал, то сдашь зачет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Это высказывание ложно только тогда, когда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материал выучен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, а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зачет не сдан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, т.к. сдать зачет можно и случайно, например если попался единственный знакомый вопрос или удалось воспользоваться шпаргалкой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имплика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373040" y="2057400"/>
          <a:ext cx="7313760" cy="4343400"/>
        </p:xfrm>
        <a:graphic>
          <a:graphicData uri="http://schemas.openxmlformats.org/drawingml/2006/table">
            <a:tbl>
              <a:tblPr/>
              <a:tblGrid>
                <a:gridCol w="243864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Эквивалентность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00"/>
                </a:solidFill>
                <a:latin typeface="Arial Narrow"/>
              </a:rPr>
              <a:t>Эквивалентность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 – это логическая операция, объединяющая два простых высказывания в одно составное и которое является истинным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тогда и только тогда, ког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оба исходных высказывания одновременно либо истинны, либо ложны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эквивалентност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373040" y="2057400"/>
          <a:ext cx="7313760" cy="4343400"/>
        </p:xfrm>
        <a:graphic>
          <a:graphicData uri="http://schemas.openxmlformats.org/drawingml/2006/table">
            <a:tbl>
              <a:tblPr/>
              <a:tblGrid>
                <a:gridCol w="243864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301800"/>
                </a:solidFill>
                <a:latin typeface="Arial Narrow"/>
              </a:rPr>
              <a:t>Переместительный</a:t>
            </a:r>
            <a:endParaRPr b="0" lang="en-US" sz="46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  ≡ Y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  ≡ 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301800"/>
                </a:solidFill>
                <a:latin typeface="Arial Narrow"/>
              </a:rPr>
              <a:t>Сочетательный</a:t>
            </a:r>
            <a:endParaRPr b="0" lang="en-US" sz="46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 ≡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 ≡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Распределительный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 ≡ 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 ≡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Правила де Моргана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X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Y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X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Y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Идемпотенции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X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X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Поглоще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ческие переменны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Например, два простых высказывания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А = «2 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 2 = 4»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стина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В = «2 </a:t>
            </a: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 2 = 5»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ложь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являются логическими переменными А и В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Склеива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Y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Y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01800"/>
                </a:solidFill>
                <a:latin typeface="Arial Narrow"/>
              </a:rPr>
              <a:t>Переменная </a:t>
            </a:r>
            <a:br>
              <a:rPr sz="4400"/>
            </a:br>
            <a:r>
              <a:rPr b="1" lang="ru-RU" sz="4400" spc="-1" strike="noStrike">
                <a:solidFill>
                  <a:srgbClr val="301800"/>
                </a:solidFill>
                <a:latin typeface="Arial Narrow"/>
              </a:rPr>
              <a:t>со своей инверсией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≡ 1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≡ 0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01800"/>
                </a:solidFill>
                <a:latin typeface="Arial Narrow"/>
              </a:rPr>
              <a:t>Операция с константам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0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≡ X, 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≡ 1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0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≡ 0, 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Двойного отрица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(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)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орядок действий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ействия в скобках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трица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Конъюнкция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изъюнкц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мпликац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Эквивалентность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В алгебре высказываний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высказывания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 обозначаются именами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логических переменных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, которые могут принимать лишь два значения: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«</a:t>
            </a:r>
            <a:r>
              <a:rPr b="1" lang="ru-RU" sz="4000" spc="-1" strike="noStrike">
                <a:solidFill>
                  <a:srgbClr val="336600"/>
                </a:solidFill>
                <a:latin typeface="Arial Narrow"/>
              </a:rPr>
              <a:t>ИСТИНА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» (1) или «</a:t>
            </a:r>
            <a:r>
              <a:rPr b="1" lang="ru-RU" sz="4000" spc="-1" strike="noStrike">
                <a:solidFill>
                  <a:srgbClr val="336600"/>
                </a:solidFill>
                <a:latin typeface="Arial Narrow"/>
              </a:rPr>
              <a:t>ЛОЖЬ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» (0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В алгебре высказываний над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логическими переменными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 (над высказываниями) можно производить определенные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логические операции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, в результате которых получаются новые высказывания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Составные высказыва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ысказывания, состоящие из нескольких простых суждений и содержащие в себе более, чем одну простую мысль, называются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логическими функциям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бозначаются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(A,B,C…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акже могут принимать значения «ИСТИНА» или «ЛОЖЬ» в зависимости от того, какие значения имеют входящие в их состав логические переменные и от действий над ним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ческие операции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умножение, «И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сложение, «ИЛИ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Инверсия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отрицание, «НЕ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Импликация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следование, «Если 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, то 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Эквивалентность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равенство, «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тогда и только тогда, когда 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Объединение двух или нескольких высказываний в одно с помощью союза «И» называется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операцией логического умножения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, или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конъюнкцией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ев Евгений</cp:lastModifiedBy>
  <dcterms:modified xsi:type="dcterms:W3CDTF">2010-09-29T14:51:14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